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950-C984-4DFE-A052-8DA60563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B8B-4494-4FF4-B927-0D1709EC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817-1C64-4F79-8B10-CD78E4EB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6ED-02B6-44B7-9642-1130EA5B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C3B5-C253-4DEB-82B2-AA15E2D6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21C-81DA-4FDA-9DE0-0127AF4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4030-047C-4C1B-BE48-66146088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2A7-BE5E-4BF9-A760-55F44287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2C90-D912-4831-8C63-90E6856C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819-53F3-4B2B-BCB7-5C972696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427-8D2D-43B9-9266-F78B9CC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072-5C2F-4A06-8AF3-B53DA142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F958-49BC-45AF-B481-24BAD732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D296-745A-4FC8-8FAB-E5A49E75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DFEE-5F7A-4D04-BA08-18C5797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7492-D1B1-4D7F-A3C9-5FF5FAAD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CB5B-2190-4F1C-8C03-003A9A3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032C-8D2D-480D-9B57-508BAB91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858D-7434-45CD-AD2B-DCA9E28C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D77A-8EF8-4A64-AC24-71A03386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F620-1EF7-425D-836E-A9EC1AE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F8ED-62B7-4F13-B021-1DA91F46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4BD-B332-4287-8B1D-90BDB04F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D209-4832-45F9-A2A7-117FA9BE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AF3B-7C1D-46A6-9A51-93BDA920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226B-D731-4977-9F02-96C32268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C558-29C5-4920-887C-B26A4BC0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E55E-0055-4B6A-96F8-79640DB2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856A-6CE2-4170-914C-A397F3D6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6DC5-B4DE-43B5-815C-21506FC9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D6FC-449F-4216-9BE5-087C6550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7DB6-ADE0-43CF-891B-E7DEF895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7092-392E-4888-BC69-94486C6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07F-7490-44E6-A950-FC154A1B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BF55-F4E0-4D6C-8A4F-89137DD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6378-4846-4357-A89F-7ED4D7E6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CC72-FC63-4F24-BC0A-2CD81349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922F-7A3C-48CE-86BE-495EEB60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1775-3561-44FC-B115-42A1D66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3D23-6657-40D9-922A-BF253BB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A8D5-155A-48F9-AC5A-A8495267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1291-CD7C-4DC7-A2B3-07F8683D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D513-116A-48C2-A092-E66769BD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9F6CC-DAAB-45B7-BDA0-D8468363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E02-BFB5-40F4-BBA3-E237B812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E947-7137-4B81-9A71-57E1FC0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971B-ACB8-4FB7-BE36-73679108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3D9F-EDB7-4D05-A5C0-9F846083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D90AB-F69B-40A7-92EB-6B52B78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423C-8B3B-49A7-B7AE-82A8157A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75554-5FC7-489D-8867-9D5004C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5E782-B899-4557-8C4E-3368BE50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690AC-929B-4038-80DE-FE8B3DFA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58023-49F6-4048-AB32-61655D0C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C1C5F-BEC9-40D2-9993-D7641655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F56-23AF-4E8C-A11C-A7664F88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738E1-C9EE-490B-BE73-C6B1106F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526-EE6B-4AB1-8CD4-4E9966C5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4BD-68F6-4847-8752-0D19C03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FC1-D5B1-4F8E-B2E8-B7F13DB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3ED-7027-42A5-8531-BD56DB2576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1E7-DEDA-460D-B987-8650263423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3BA6-7E66-410E-9D2B-538C2FDD3556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5B01-271A-4974-AED4-FBC6A95C5B7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318F-0D89-4501-81A1-99E5ADFF5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76360" y="2060640"/>
            <a:ext cx="6284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32000" y="1413000"/>
            <a:ext cx="6264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学习方法辅导主题班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"/>
          <p:cNvSpPr/>
          <p:nvPr/>
        </p:nvSpPr>
        <p:spPr>
          <a:xfrm>
            <a:off x="3616200" y="522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5516640"/>
            <a:ext cx="172728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40720" y="512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迎接期中考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76000" y="691920"/>
            <a:ext cx="5869080" cy="91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钟老师的期望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不要失去为自己争分、争星的机会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不轻言放弃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要拿出运动会上那种团结一致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勇于拼搏精神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你追我赶，争取在</a:t>
            </a:r>
            <a:r>
              <a:rPr b="0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天以后的期中考试中再创辉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们相信一分耕耘，一分收获；我们相信逆水行舟，不进则退；我们相信天才出与勤奋；我们相信勤能补拙，之所以优秀是因为他更努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557360"/>
            <a:ext cx="756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计划的重要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0" y="4292640"/>
            <a:ext cx="1652760" cy="2362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3100320"/>
            <a:ext cx="756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 目标的重要性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学期目标、奋斗目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 学习目的性要加强，意识到学习的重要性，并积极地采取行动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880" y="1951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189000"/>
            <a:ext cx="5029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良好的开端是成功的一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132000" y="5445000"/>
            <a:ext cx="5029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事半功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11280" y="333360"/>
            <a:ext cx="8137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养成良好的学习习惯，掌握科学的学习方法，提高学习效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 高效听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―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分钟是学习中最重要的一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积极思考，紧跟老师思路，如果老师讲的某一个问题没有听懂，先快速地用简单的几个字记下问题，课后再找同学或老师帮助解决，一定要跟着老师的思路往前走，否则的话，一旦被其个别问题所困惑，就会影响整堂课的听课效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57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养成良好的学习习惯，掌握科学的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习方法，提高学习效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、 记笔记（要提纲挈领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在教师指导下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课本上有的如公式的适用范围、使用时的注意事项必须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老师指出的特别容易混淆和出错的地方必须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巧用笔记本（分出一列提示、补充处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⑸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利用课堂的间隙，见缝插针（与教师同步写，利用教师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运算的时间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对典型例题，一定先听分析讲解，简单记下方法即可，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万不要因为记笔记而面影响听课，否则，就是丢了西瓜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芝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借用好同学的笔记补遗漏、借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一定要阶段性地总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71640" y="1844640"/>
            <a:ext cx="7777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课前适当预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⑵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学习主动性加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⑶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精读（学会思考钻研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⑷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培养自学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imes New Roman"/>
              </a:rPr>
              <a:t>   ⑸</a:t>
            </a:r>
            <a:r>
              <a:rPr b="1" lang="zh-CN" sz="3600" spc="-1" strike="noStrike">
                <a:solidFill>
                  <a:srgbClr val="ffcf01"/>
                </a:solidFill>
                <a:latin typeface="Times New Roman"/>
              </a:rPr>
              <a:t>对于课外知识要多积累，做到厚    积薄发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16000" y="808200"/>
            <a:ext cx="790560" cy="63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92360" y="836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cf01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f01"/>
                </a:solidFill>
                <a:latin typeface="Times New Roman"/>
              </a:rPr>
              <a:t>掌握好学习的步骤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20000" y="5013360"/>
            <a:ext cx="2124000" cy="1844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885080" y="765000"/>
            <a:ext cx="95256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26920" y="1844640"/>
            <a:ext cx="7783560" cy="1373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数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定要重质量而不是数量，也就是说，做一道题一定弄懂吃透，可以反复几次来回思考，从各个角度考虑，这样做会一题胜过做十题，也只有这样才能做到举一反三，触类旁通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学习理科认识的方法大体上类似，只是在各科上稍做调整。学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科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一定要掌握好基础知识，该记的东西必须记劳，注意结合实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总之，学习数理化，关键是要抓基础，有了好的基础，难题不愁解不出来，因为难题也是由基础题演变而来的，所谓“万变不离其宗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47640" cy="495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26920" y="6237360"/>
            <a:ext cx="7848720" cy="620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040200" y="8222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cf01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cf01"/>
                </a:solidFill>
                <a:latin typeface="黑体"/>
                <a:ea typeface="黑体"/>
              </a:rPr>
              <a:t>了解各学科的特点</a:t>
            </a: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cf01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908000" y="1989000"/>
            <a:ext cx="554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49080" cy="592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00000" y="2348280"/>
            <a:ext cx="7651800" cy="3080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语文、英语的学习平时应注意量的积累（从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词到句子），可以准备一个小本子，平时看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读报，看到好的词汇、句子记下来，平时自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有了什么感想也应该写出来，这样坚持一段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间，语言知识自然丰富了，阅读分析能力也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提高，写作时也有话可说了。学习文科，应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重数量到质量的飞跃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0200" y="8222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各学科的特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851280" y="5445000"/>
            <a:ext cx="5075280" cy="1413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900000" y="5448240"/>
            <a:ext cx="460872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19280" y="907920"/>
            <a:ext cx="70563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整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―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对知识消化、整理的过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9840" y="2780280"/>
            <a:ext cx="4911120" cy="2531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回忆当天的重点、难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看笔记，把自己对知识的领悟记下来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笔记做一些圈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新学的公式，一定要注意公式的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构，公式顺用、逆用、变用要理解透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4360" y="2921760"/>
            <a:ext cx="7956360" cy="2226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切记：不要一边翻书一边写作业，先看书，感觉都理 解了再做题，做题时遇到不会的问题先放下，然后做其他的题，最后再回过头来看书，找出 解不出的原因。老师布置的作业应先做，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间再做自己买的学习资料，应尽可能全做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确实没有时间，可以选择性地做 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千万不可以抄袭作业，应付作业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6256440"/>
            <a:ext cx="9144000" cy="601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21440" y="476280"/>
            <a:ext cx="4627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独立作业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――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强化训练的过程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0:54Z</dcterms:modified>
  <cp:revision>81</cp:revision>
  <dc:subject>主题班会课件(分28大类): http://shop62905894.taobao.com</dc:subject>
  <dc:title>主题班会课件(分28大类): http://shop62905894.taobao.com</dc:title>
</cp:coreProperties>
</file>